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A57-65DE-4179-84EA-224E501B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BE8-FBF3-4110-86E9-5D77D4E3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C07-F827-4262-B9CB-9A77FB6A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648-AC6F-4263-8CD1-5A280601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569-0C49-48E6-99C0-902713D8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F75-A664-42BA-95B7-4D7D8B7A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AE9-CB47-4332-88B0-FF150D64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40E-708C-4006-AA46-37C9104F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B16-441D-4786-9FCE-3BCF6399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C52-5A16-47EC-9180-70D875D2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8C9-F9FD-49AA-9F73-09924D95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6C4-FC2D-4C09-8782-589C3040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43890-F06D-496F-9AD4-81108DD70D2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60" y="6868080"/>
            <a:ext cx="33368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) Aparece la especie hum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280" y="5373720"/>
            <a:ext cx="6683760" cy="61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) Las plantas (Briofitas = musgos) y los animales (Artrópod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en del agua y colonizan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440" y="4959720"/>
            <a:ext cx="37180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) Se diversifican los inverteb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440" y="4542480"/>
            <a:ext cx="34390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) Los reptiles dominan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040" y="4110480"/>
            <a:ext cx="61153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) Primeros seres vivos pluricelulares: algas rojas y ver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120" y="3700800"/>
            <a:ext cx="53913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) Comienza a liberarse oxígeno hacia la atmósf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40" y="3269160"/>
            <a:ext cx="52221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) Aparecen los vertebrados = peces acora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280" y="2835720"/>
            <a:ext cx="49111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) Formación de las primeras rocas litosf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0" y="2404080"/>
            <a:ext cx="43930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) Primeros metazoos: fauna de Edia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1972080"/>
            <a:ext cx="38581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 Formación de océanos primi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840" y="1540440"/>
            <a:ext cx="27165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Formación de la L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00" y="1111680"/>
            <a:ext cx="34160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Gran bombardeo meteor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160" y="713160"/>
            <a:ext cx="54446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Formación de la primera atmósfera (sin oxígen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91600" y="5834160"/>
            <a:ext cx="3454200" cy="61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) Los mamíferos se diversif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extienden por toda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360" y="4278600"/>
            <a:ext cx="3579120" cy="61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) Gran extinción Cretácica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impacto de una gran meteor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25120" y="3821760"/>
            <a:ext cx="382320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) Surgen los Mamíferos y las 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120" y="6053760"/>
            <a:ext cx="59245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) La atmósfera alcanza los niveles actuales de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0" y="6450480"/>
            <a:ext cx="69274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) Los vertebrados conquistan la Tierra: peces - anfibios – rept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17760" y="7059960"/>
            <a:ext cx="49219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) Continúa la expansión del Océano Atlán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16560" y="2942280"/>
            <a:ext cx="4630680" cy="87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) Aparecen los dinosaurios y otros gr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tiles, que se extenderán por todos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es y continentes y dominarán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55720" y="2561040"/>
            <a:ext cx="288288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) Gran extinción Pér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42800" y="2154600"/>
            <a:ext cx="23738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) Aparición de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0080" y="1754640"/>
            <a:ext cx="318744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) Se forma el último Pang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23120" y="1324440"/>
            <a:ext cx="449352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) Comienza a formarse la capa de Oz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97520" y="628920"/>
            <a:ext cx="3251520" cy="615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) Surgen las Espermatófi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tas con sem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43920" y="172080"/>
            <a:ext cx="28065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Formación de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720" y="288000"/>
            <a:ext cx="2806560" cy="36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Formación de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9120" y="176040"/>
            <a:ext cx="9672840" cy="72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Formación de la Tierra.                                                    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PUT INTO A SENSIBL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Formación de la primera atmósfera (sin oxígen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Gran bombardeo meteor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) Formación de la L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 Formación de océanos primi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) Primeros metazoos: fauna de Edia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) Formación de las primeras rocas litosfé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) Aparecen los vertebrados = peces acora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) Comienza a liberarse oxígeno hacia la atmósf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) Primeros seres vivos pluricelulares: algas rojas y ver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) Los reptiles dominan 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) Se diversifican los inverteb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) Las plantas (Briofitas = musgos) y los animales (Artrópodos) salen del agua y coloniza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) La atmósfera alcanza los niveles actuales de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) Los vertebrados conquistan la Tierra: peces - anfibios – rept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) Aparece la especie hum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) Surgen las Espermatófitas, plantas con sem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) Comienza a formarse la capa de Oz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) Se forma el último Pang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) Aparición de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) Gran extinción Pér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) Aparecen los dinosaurios y otros grandes reptiles, que se extenderán por todos los mar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nentes y dominarán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) Surgen los Mamíferos y las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) Gran extinción Cretácica por el impacto de una gran meteor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) Los mamíferos se diversifican y se extienden por toda la Tier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) Continúa la expansión del Océano Atlán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08:42:04Z</dcterms:created>
  <dc:creator/>
  <dc:description/>
  <dc:language>en-US</dc:language>
  <cp:lastModifiedBy/>
  <dcterms:modified xsi:type="dcterms:W3CDTF">2013-01-14T16:24:25Z</dcterms:modified>
  <cp:revision>7</cp:revision>
  <dc:subject/>
  <dc:title/>
</cp:coreProperties>
</file>